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ct" ContentType="image/x-pict"/>
  <Override PartName="/ppt/media/image5.pct" ContentType="image/x-pict"/>
  <Override PartName="/ppt/media/image11.jpeg" ContentType="image/jpeg"/>
  <Override PartName="/ppt/media/image6.pct" ContentType="image/x-pict"/>
  <Override PartName="/ppt/media/image7.pct" ContentType="image/x-pict"/>
  <Override PartName="/ppt/media/image10.jpeg" ContentType="image/jpeg"/>
  <Override PartName="/ppt/media/image8.jpeg" ContentType="image/jpeg"/>
  <Override PartName="/ppt/media/image12.jpeg" ContentType="image/jpeg"/>
  <Override PartName="/ppt/media/image1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5D4D-893E-4B36-B007-D28A6062D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en.wikipedia.org/wiki/Image:Map_of_New_York_highlighting_Nassau_County.p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D4B-09F1-492E-A1FB-46378480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A632-9CB2-49E8-85B2-8AE09149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3AE-FDD4-4672-801B-9609C372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A84-54F5-4021-A159-43EB72E5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031-EDC8-4433-97CA-DB65138F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9BC-02DB-4185-81CE-4F1AA1B8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D9D-36CB-4280-8288-6B349AEB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30A-AF1A-4357-884C-E4852071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A55E-1A33-4945-B6F9-7ED0DAC4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3F6-CB56-44E2-950B-69FD1205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179-FE7C-4690-8584-0EAAF8BB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56D-0228-4C10-8F59-12EFD3CF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D951-4BD6-4807-B70C-1B87FB2BC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ap_of_New_York_highlighting_Nassau_County.png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ligoldcoast.com/lipublic.html" TargetMode="External"/><Relationship Id="rId4" Type="http://schemas.openxmlformats.org/officeDocument/2006/relationships/hyperlink" Target="http://www.realtor.com/FindHome/HomeListings.asp?mlsttl=&amp;frm=bymap&amp;pgnum=1&amp;mls=xmls&amp;js=on&amp;target=&amp;ct=great+neck&amp;st=NY&amp;sbint=&amp;sbls=&amp;sblo=&amp;lnksrc=SRP-ModSearch&amp;stype=&amp;areaid=938&amp;lid=Enter+MLS+ID&amp;ss_aywr=&amp;optInCheckbox=&amp;mnsqft=0&amp;fid=so&amp;vtsort=&amp;exft=0&amp;exft=0&amp;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he Great Gatsb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F. Scott Fitzgera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23652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en light—at the end of the Buchanan’s dock—represents Gatsby’s hopes and dr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www.dsimons.dds.nl/images/wallpapers/Green%20Traffic%20Light.jpg"/>
          <p:cNvPicPr/>
          <p:nvPr/>
        </p:nvPicPr>
        <p:blipFill>
          <a:blip r:embed="rId1"/>
          <a:stretch/>
        </p:blipFill>
        <p:spPr>
          <a:xfrm>
            <a:off x="5334120" y="2438280"/>
            <a:ext cx="3257280" cy="244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 eyes of T.J. Eckleburg—a pair of eyes on a billboard ad for an eye doctor…they overlook the Valley and may represent God looking at and judging American socie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F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tting--Long Is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Image:Map of New York highlighting Nassau County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838080"/>
            <a:ext cx="4038480" cy="3121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1676520"/>
            <a:ext cx="2743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cated on the southern part of New Y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urb of New York 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4075200"/>
            <a:ext cx="6019920" cy="2785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ng Island "Gold Coast" is  where many of the nation's rich and famous built homes.</a:t>
            </a:r>
            <a:br>
              <a:rPr sz="3200"/>
            </a:b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Gold Coast H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ting: Long Is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st Eg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based on Manhasset Neck, Long Island)—Represents “old mone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st Eg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based on Great neck, Long Island)—Represents “new mone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4419360" cy="3600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5486040" y="2743200"/>
            <a:ext cx="609480" cy="1905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4724280"/>
            <a:ext cx="68580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1523880"/>
            <a:ext cx="327024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anhasset and Great N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57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m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merican Dream and its disintegr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merican dream was originally abou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ividua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ursuit of happ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15000" y="3321000"/>
            <a:ext cx="3429000" cy="315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American Dream and its dis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th unprecedented prosperity and material excess it became tarnished and left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cial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mpty pursuit of plea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m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ney and the sociology of weal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money vs. new mo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2160" y="3147840"/>
            <a:ext cx="914400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3899160" cy="298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3657600" cy="3048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80" y="6019920"/>
            <a:ext cx="44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s George Bush Old money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400" y="617220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s Flava New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ld money vs. new money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ld money—aristocratic, inherited wealth, tasteful, elegant, have social graces…but  ultimately very shallow peopl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835520" y="1371600"/>
            <a:ext cx="3351240" cy="487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money vs. new mone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 money—vulgar, self-made (rags to riches), showy, tacky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9880" y="1407960"/>
            <a:ext cx="5029200" cy="3935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27080" y="3962520"/>
            <a:ext cx="198432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ley of Ashes—between Long Island and NYC, a desolate wasteland used for dumping and burning trash—stands for a moral waste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Johannesburg Zoom In 1"/>
          <p:cNvPicPr/>
          <p:nvPr/>
        </p:nvPicPr>
        <p:blipFill>
          <a:blip r:embed="rId1"/>
          <a:stretch/>
        </p:blipFill>
        <p:spPr>
          <a:xfrm>
            <a:off x="2133720" y="3807000"/>
            <a:ext cx="4495680" cy="305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01:34:29Z</dcterms:created>
  <dc:creator>Laura Michaels</dc:creator>
  <dc:description/>
  <dc:language>en-US</dc:language>
  <cp:lastModifiedBy>Buffalo Grove High School</cp:lastModifiedBy>
  <dcterms:modified xsi:type="dcterms:W3CDTF">2007-04-24T13:33:28Z</dcterms:modified>
  <cp:revision>36</cp:revision>
  <dc:subject/>
  <dc:title>Great Gatsby</dc:title>
</cp:coreProperties>
</file>